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76B7-F6A5-4B6A-BC2E-FB0E96D2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31E4-0494-43AA-AEC8-61313A92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23DE-729A-437E-A79A-3CAAC4F3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C960-BB41-4BC1-B2F9-602D24D5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2296-825D-4340-8212-D6597C10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B027-FB8C-4EE4-AAA2-3764FD60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93EE-7970-4D55-8EA9-28888130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F5C6-720A-4296-AD9D-3660A4BA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554E-A4A1-4BD1-A87D-0ACF8ECF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90BB-2D69-40CA-BDA1-2C95C71B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7C48-26F8-4E1A-9ED4-48204597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3ABD-5A15-4AF0-9ED4-1C61D177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56BA-A358-4D23-B849-9D6251B0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F1E8-DED7-4013-AFCD-B6B89FC3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EDF7-E45F-4D0E-B859-8F1B6E4D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1395-D419-4482-8366-DB0108B4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520B-3820-440B-9C24-0C1F3927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356B-7926-4415-8DD6-044579C8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6733-97F9-4FB3-BEAF-E3A12EE1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10F1-8FFF-457E-A12C-287A7E23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60A4-A43F-4FB3-9DCE-3F5E2C4A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1267-D604-49BC-887B-B356B856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68CE-E482-4D5B-8088-B0FC90A9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8670-25C3-484F-B6DC-7890624D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DD2AC8-5716-427D-B08B-1FA6266944D9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8D52DA-BB08-465F-8625-24FD0498F13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61223-B46B-42ED-AD2E-9381FFF615A6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531795-5635-4355-A27B-541C59C4EEB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2"/>
          <a:stretch/>
        </p:blipFill>
        <p:spPr>
          <a:xfrm>
            <a:off x="414360" y="2127240"/>
            <a:ext cx="82422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IROSHIM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AGASAKI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6,000 building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0,000-120,000 instant death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ousands of later deaths due to radi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5,000-74,000 instant death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ousands of later deaths due to radi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1330200" y="49258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**Between 1950 and 2000, Japan saw a drastic increase in cancer-related deaths, thought to be caused by effects of radi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No person shall be held to answer for a capital, or otherwise infamous crime, unless on a presentment or indictment of a Grand Jury, except in cases arising in the land or naval forces, or in the Militia, when in actual service in time of War or public danger; nor shall any person be subject for the same offense to be twice put in jeopardy of life or limb; nor shall be compelled in any criminal case to be a witness against himself, nor be deprived of life, liberty, or property, without due process of law; nor shall private property be taken for public use, without just compensation.”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fter Pearl Harbor, people panicked and feared Japanese-Americans were sp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ense racism on west coa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7" name="Picture 3" descr="Japanese racism.jpg"/>
          <p:cNvPicPr/>
          <p:nvPr/>
        </p:nvPicPr>
        <p:blipFill>
          <a:blip r:embed="rId3"/>
          <a:stretch/>
        </p:blipFill>
        <p:spPr>
          <a:xfrm>
            <a:off x="2362320" y="3124080"/>
            <a:ext cx="480060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9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Passed by Franklin Delano Roosevelt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ny area could be declared a “military zone”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rdered all people of Japanese ancestry to evacuate these zones to internment camp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0" name="Content Placeholder 22" descr="Order.jpg"/>
          <p:cNvPicPr/>
          <p:nvPr/>
        </p:nvPicPr>
        <p:blipFill>
          <a:blip r:embed="rId3"/>
          <a:srcRect l="-17882" t="0" r="-17882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4" descr="Camps.jpg"/>
          <p:cNvPicPr/>
          <p:nvPr/>
        </p:nvPicPr>
        <p:blipFill>
          <a:blip r:embed="rId3"/>
          <a:srcRect l="0" t="-19688" r="0" b="-19688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Japanese given almost no time to prepar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Marched to railroads and sent to camp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Placeholder 7" descr="Fence.jpg"/>
          <p:cNvPicPr/>
          <p:nvPr/>
        </p:nvPicPr>
        <p:blipFill>
          <a:blip r:embed="rId2"/>
          <a:stretch/>
        </p:blipFill>
        <p:spPr>
          <a:xfrm>
            <a:off x="-66600" y="-42840"/>
            <a:ext cx="9594720" cy="728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esident Roosevelt authorized this secret project to research and develop the atomic bomb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uly 16, 1945 – world’s first atomic bomb detonated in New Mexic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ROP THE BOMB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VADE JAPA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inimal American casualt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lmost certain succe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re civilian casualties and destruction in Japa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eavy casualties to America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 certain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nly military casualties inflicted on Japa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mericans warn Japan that “prompt and utter destruction” was coming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Little Boy” dropped on Hiroshima on August 6, 1945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Fat Man” dropped on Nagasaki on August 9, 1945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Content Placeholder 14" descr="atomic bomb.jpg"/>
          <p:cNvPicPr/>
          <p:nvPr/>
        </p:nvPicPr>
        <p:blipFill>
          <a:blip r:embed="rId3"/>
          <a:srcRect l="0" t="-23737" r="0" b="-23737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13:03:04Z</dcterms:created>
  <dc:creator>Moffa, David</dc:creator>
  <dc:description/>
  <dc:language>en-US</dc:language>
  <cp:lastModifiedBy>Moffa, David</cp:lastModifiedBy>
  <dcterms:modified xsi:type="dcterms:W3CDTF">2011-05-26T13:36:21Z</dcterms:modified>
  <cp:revision>10</cp:revision>
  <dc:subject/>
  <dc:title>Japanese Internment and the Bomb</dc:title>
</cp:coreProperties>
</file>